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2F20-1221-47B6-A575-DDC4B05DE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F3A5-22FD-4EF5-9131-390382A5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998D-EF9C-40BA-B6A8-1A51EFE6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847B-CA8B-4AF9-8E55-E78B757F4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B597-4F6F-4593-89BE-75E0F0C82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F00B-040B-4455-B503-0F455479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323DA-527C-41F7-99F2-330B10ED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65C3-6409-433D-9688-2BCE52E3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7DD9-7B32-4C46-BDFE-CD0E857B8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DD01-D2FE-4843-B417-D38F85FB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5F938-A1D0-426C-8825-6D948860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534C-F3C6-4F41-BE7B-DAB216693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7DD13-69AA-4928-A9B7-A7DE24CE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8829-68B4-4DF6-9411-CEC0D8BF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01D0-4063-47F6-9EF3-F4A19715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24119-4E4F-4C5B-A2A7-A0A5B9B2E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BB86-7836-4898-9D73-9CDC31C4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2116-29F6-4AE6-BFF7-20731856C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8342FA-A7EA-43D6-93C0-08A09DDB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2137A0-49CC-4F4A-9695-3A779FCC6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B442E-1B56-41A4-ACE4-5AC6A6A3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F7247-CDF9-436E-81DA-1DE19363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4071-1155-451A-B74F-797752C2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A005D-D4F6-43F6-8427-F57E51F5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8BD41-6AE7-4222-BE2E-53A261F66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C0C95-42AF-4DA4-B8B5-EB7088F5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141A-4F8E-4ED3-AB80-032E41A6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074631-710E-44AB-9004-C1B0DAC2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77788-BCCF-4033-A7E1-52396B52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B8FF-C436-4102-B476-DC7749DCD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6380D-6198-434B-B147-EA885B36B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58FC7-7DFE-4084-9F43-626E249A5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C42B2-F076-459C-BB89-279D7147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01BF-031A-4AB3-B2E7-604D5D503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A3AAF8-51B9-4DB8-AFDD-CF0363C94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DD78E-EB3C-4C84-B63D-D776C0B6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0DEC3-C488-4E9B-B550-22D539DB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A1E6-F5BB-4D50-90D9-AEA532C7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9C712-BA7A-4041-8039-FE910985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780F64-D076-4F71-9F36-46E5F023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D0FB-70D7-4E0A-9EE8-BE74E4B6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F36F6-5764-4FD0-B142-CC495F6CD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BD33C-5A7A-4424-A290-B7F47AF31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A7EA68-06B5-4EC0-A09E-F9F52943C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A1E0-E162-46A6-B49D-6E476D81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A6012-4DD7-4B03-924B-6D4401BCA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081EE-3269-49A5-B9EA-B3650A78C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68CB9-4F3D-4A89-B4AB-74AF026F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D344B4-4E4B-4233-8262-E0A6B193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D6E61-9819-4B01-B606-051E1913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A6382-7A2D-4631-8FC6-0030D2D5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98B0E-24E3-4F18-A5B1-D3E84047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F927EA-788B-4CCE-B181-8DC965B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E15FC-A25A-4367-99BA-CA961248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BBC6C-5E05-4D21-9A07-407F292A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9E28-F309-4933-A7FB-CABC0DD23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E5504-D5D5-4230-BF31-0F513BBCC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F141-C59D-4348-9D07-29BD2294A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55B-D6A4-4A00-9328-A194E271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BB89-D03E-40DD-927C-8379FDE3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C1E9A-1B16-40CE-AB30-A4BB3BFB50A1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2BB3B1-D99A-4AE1-AB22-C98307755ED2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4293AF-4951-43BC-944D-71ED4CEECA44}" type="slidenum"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40404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40404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80888-7648-4E88-9578-F64596CA98AA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8C2BDD-2B7C-473C-A2F2-44BCD4253730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000080"/>
            <a:ext cx="7772400" cy="495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262626"/>
                </a:solidFill>
                <a:latin typeface="Constantia"/>
              </a:rPr>
              <a:t>ГЛАГОЛ </a:t>
            </a:r>
            <a:br>
              <a:rPr sz="8000"/>
            </a:br>
            <a:r>
              <a:rPr b="0" lang="ru-RU" sz="6000" spc="-1" strike="noStrike">
                <a:solidFill>
                  <a:srgbClr val="262626"/>
                </a:solidFill>
                <a:latin typeface="Constantia"/>
              </a:rPr>
              <a:t>КАК ЧАСТЬ РЕЧИ</a:t>
            </a: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68360" y="2852640"/>
            <a:ext cx="79898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57200" y="1197000"/>
          <a:ext cx="8229600" cy="5433840"/>
        </p:xfrm>
        <a:graphic>
          <a:graphicData uri="http://schemas.openxmlformats.org/drawingml/2006/table">
            <a:tbl>
              <a:tblPr/>
              <a:tblGrid>
                <a:gridCol w="1400040"/>
                <a:gridCol w="1643040"/>
                <a:gridCol w="1643400"/>
                <a:gridCol w="1896840"/>
                <a:gridCol w="1646280"/>
              </a:tblGrid>
              <a:tr h="91440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Спряж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1cade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Лиц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Ед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Мн.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3f5"/>
                    </a:solidFill>
                  </a:tcPr>
                </a:tc>
              </a:tr>
              <a:tr h="3330360">
                <a:tc>
                  <a:txBody>
                    <a:bodyPr lIns="85320" rIns="85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е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м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т,  -ю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у, -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ш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  <a:tc>
                  <a:txBody>
                    <a:bodyPr lIns="85320" rIns="853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и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- ат, -я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85320" marR="85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1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Спряжение глагола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0012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1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глагола 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пределяется по окончанию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2. Если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окончание безударное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, то спряжение определяется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4000" spc="-1" strike="noStrike">
                <a:solidFill>
                  <a:srgbClr val="487b78"/>
                </a:solidFill>
                <a:latin typeface="Century Gothic"/>
              </a:rPr>
              <a:t>по инфинитиву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Ко </a:t>
            </a:r>
            <a:r>
              <a:rPr b="1" lang="en-US" sz="4000" spc="-1" strike="noStrike">
                <a:solidFill>
                  <a:srgbClr val="262626"/>
                </a:solidFill>
                <a:latin typeface="Century Gothic"/>
              </a:rPr>
              <a:t>II</a:t>
            </a: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 спряжению глагола относятся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39640" y="2014560"/>
            <a:ext cx="8064720" cy="45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се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ы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на –и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кроме брить, стели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7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ов на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–еть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видеть, обидеть, смотреть, ненавидеть, зависеть, терпеть, верте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);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4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глагола на  -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ать</a:t>
            </a:r>
            <a:r>
              <a:rPr b="1" lang="ru-RU" sz="26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600" spc="-1" strike="noStrike">
                <a:solidFill>
                  <a:srgbClr val="00b050"/>
                </a:solidFill>
                <a:latin typeface="Century Gothic"/>
              </a:rPr>
              <a:t>гнать, держать, слышать, дышать)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178560" indent="-1785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Все остальные глаголы относятся к </a:t>
            </a:r>
            <a:r>
              <a:rPr b="1" lang="en-US" sz="2600" spc="-1" strike="noStrike">
                <a:solidFill>
                  <a:srgbClr val="ff0000"/>
                </a:solidFill>
                <a:latin typeface="Century Gothic"/>
              </a:rPr>
              <a:t>I </a:t>
            </a:r>
            <a:r>
              <a:rPr b="1" lang="ru-RU" sz="2600" spc="-1" strike="noStrike">
                <a:solidFill>
                  <a:srgbClr val="ff0000"/>
                </a:solidFill>
                <a:latin typeface="Century Gothic"/>
              </a:rPr>
              <a:t>спряжению</a:t>
            </a:r>
            <a:r>
              <a:rPr b="0" lang="ru-RU" sz="2200" spc="-1" strike="noStrike">
                <a:solidFill>
                  <a:srgbClr val="ff0000"/>
                </a:solidFill>
                <a:latin typeface="Century Gothic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Разноспрягаемые глаголы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хоте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бежа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чтить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 </a:t>
            </a:r>
            <a:r>
              <a:rPr b="0" lang="ru-RU" sz="4400" spc="-1" strike="noStrike">
                <a:solidFill>
                  <a:srgbClr val="487b78"/>
                </a:solidFill>
                <a:latin typeface="Century Gothic"/>
              </a:rPr>
              <a:t>и производные от них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ид глагола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возврат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переходность;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  </a:t>
            </a:r>
            <a:r>
              <a:rPr b="0" lang="ru-RU" sz="4800" spc="-1" strike="noStrike">
                <a:solidFill>
                  <a:srgbClr val="ff0000"/>
                </a:solidFill>
                <a:latin typeface="Century Gothic"/>
              </a:rPr>
              <a:t>- спряжение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62626"/>
                </a:solidFill>
                <a:latin typeface="Century Gothic"/>
              </a:rPr>
              <a:t>Непостоянные признаки глагол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наклонение,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время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лицо (если есть),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число,   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  </a:t>
            </a:r>
            <a:r>
              <a:rPr b="0" lang="ru-RU" sz="4400" spc="-1" strike="noStrike">
                <a:solidFill>
                  <a:srgbClr val="00b050"/>
                </a:solidFill>
                <a:latin typeface="Century Gothic"/>
              </a:rPr>
              <a:t>- род (если есть)</a:t>
            </a:r>
            <a:endParaRPr b="0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Содержимое 2" descr=""/>
          <p:cNvPicPr/>
          <p:nvPr/>
        </p:nvPicPr>
        <p:blipFill>
          <a:blip r:embed="rId1"/>
          <a:stretch/>
        </p:blipFill>
        <p:spPr>
          <a:xfrm>
            <a:off x="457200" y="390600"/>
            <a:ext cx="8229600" cy="57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262626"/>
                </a:solidFill>
                <a:latin typeface="Century Gothic"/>
              </a:rPr>
              <a:t>Инфинитив</a:t>
            </a:r>
            <a:br>
              <a:rPr sz="3600"/>
            </a:br>
            <a:endParaRPr b="0" lang="en-US" sz="6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Century Gothic"/>
              </a:rPr>
              <a:t>отвечает на вопросы 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     </a:t>
            </a:r>
            <a:r>
              <a:rPr b="0" lang="ru-RU" sz="6000" spc="-1" strike="noStrike">
                <a:solidFill>
                  <a:srgbClr val="00b050"/>
                </a:solidFill>
                <a:latin typeface="Century Gothic"/>
              </a:rPr>
              <a:t>что сделать?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262626"/>
                </a:solidFill>
                <a:latin typeface="Century Gothic"/>
              </a:rPr>
              <a:t>Показатели инфинитива: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Суффиксы  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ти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чь, </a:t>
            </a:r>
            <a:r>
              <a:rPr b="0" lang="ru-RU" sz="60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0" lang="ru-RU" sz="6000" spc="-1" strike="noStrike">
                <a:solidFill>
                  <a:srgbClr val="ff0000"/>
                </a:solidFill>
                <a:latin typeface="Century Gothic"/>
              </a:rPr>
              <a:t>сти</a:t>
            </a:r>
            <a:endParaRPr b="0" lang="en-US" sz="6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Инфинитив - это </a:t>
            </a:r>
            <a:br>
              <a:rPr sz="3600"/>
            </a:br>
            <a:r>
              <a:rPr b="1" lang="ru-RU" sz="3600" spc="-1" strike="noStrike" u="sng">
                <a:solidFill>
                  <a:srgbClr val="00b050"/>
                </a:solidFill>
                <a:uFillTx/>
                <a:latin typeface="Century Gothic"/>
              </a:rPr>
              <a:t>неизменяемая</a:t>
            </a:r>
            <a:r>
              <a:rPr b="1" lang="ru-RU" sz="3600" spc="-1" strike="noStrike">
                <a:solidFill>
                  <a:srgbClr val="262626"/>
                </a:solidFill>
                <a:latin typeface="Century Gothic"/>
              </a:rPr>
              <a:t> форма глагола</a:t>
            </a:r>
            <a:r>
              <a:rPr b="0" lang="ru-RU" sz="3600" spc="-1" strike="noStrike">
                <a:solidFill>
                  <a:srgbClr val="262626"/>
                </a:solidFill>
                <a:latin typeface="Century Gothic"/>
              </a:rPr>
              <a:t>,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оэтому в предложении может бы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подлежащи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0" lang="ru-RU" sz="2800" spc="-1" strike="noStrike" u="sng">
                <a:solidFill>
                  <a:srgbClr val="00b050"/>
                </a:solidFill>
                <a:uFillTx/>
                <a:latin typeface="Century Gothic"/>
              </a:rPr>
              <a:t>Читать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всегда полезно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определ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Его желание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труд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мне всегда нравилось.),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дополнением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(Я посоветовал ему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обрат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к учителю), входить в состав </a:t>
            </a:r>
            <a:r>
              <a:rPr b="0" lang="ru-RU" sz="2800" spc="-1" strike="noStrike">
                <a:solidFill>
                  <a:srgbClr val="ff0000"/>
                </a:solidFill>
                <a:latin typeface="Century Gothic"/>
              </a:rPr>
              <a:t>глагольного сказуемого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(Я </a:t>
            </a:r>
            <a:r>
              <a:rPr b="0" lang="ru-RU" sz="2800" spc="-1" strike="noStrike">
                <a:solidFill>
                  <a:srgbClr val="00b050"/>
                </a:solidFill>
                <a:latin typeface="Century Gothic"/>
              </a:rPr>
              <a:t>решил продолжить учиться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) и т.д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ля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 инфинитив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характерны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1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категория вида: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делать? – несовершенный вид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что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делать – </a:t>
            </a:r>
            <a:r>
              <a:rPr b="1" lang="ru-RU" sz="2800" spc="-1" strike="noStrike">
                <a:solidFill>
                  <a:srgbClr val="ff0000"/>
                </a:solidFill>
                <a:latin typeface="Century Gothic"/>
              </a:rPr>
              <a:t>с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овершенный вида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2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переходность/непереходность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(сказать (что?) правду – переходный, сказаться больным – непереходный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3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возвратность/невозвратность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объясниться – объяснить)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4)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залог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читать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действи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, читаться – </a:t>
            </a:r>
            <a:r>
              <a:rPr b="1" lang="ru-RU" sz="2800" spc="-1" strike="noStrike">
                <a:solidFill>
                  <a:srgbClr val="0070c0"/>
                </a:solidFill>
                <a:latin typeface="Century Gothic"/>
              </a:rPr>
              <a:t>страдательный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</a:t>
            </a:r>
            <a:r>
              <a:rPr b="1" lang="ru-RU" sz="4400" spc="-1" strike="noStrike">
                <a:solidFill>
                  <a:srgbClr val="00b050"/>
                </a:solidFill>
                <a:latin typeface="Century Gothic"/>
              </a:rPr>
              <a:t>наклонения</a:t>
            </a: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 глагола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Century Gothic"/>
              </a:rPr>
              <a:t>Наклонение глагола 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– это грамматическая категория, которая выражает отношение действия к реальности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Изъяв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2683c6"/>
                </a:solidFill>
                <a:latin typeface="Century Gothic"/>
              </a:rPr>
              <a:t>Повели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Сослагатель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 (</a:t>
            </a:r>
            <a:r>
              <a:rPr b="1" lang="ru-RU" sz="2800" spc="-1" strike="noStrike">
                <a:solidFill>
                  <a:srgbClr val="2683c6"/>
                </a:solidFill>
                <a:latin typeface="Century Gothic"/>
              </a:rPr>
              <a:t>условное</a:t>
            </a:r>
            <a:r>
              <a:rPr b="1" lang="ru-RU" sz="2800" spc="-1" strike="noStrike">
                <a:solidFill>
                  <a:srgbClr val="000000"/>
                </a:solidFill>
                <a:latin typeface="Century Gothic"/>
              </a:rPr>
              <a:t>) наклонение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262626"/>
                </a:solidFill>
                <a:latin typeface="Century Gothic"/>
              </a:rPr>
              <a:t>Категория времени</a:t>
            </a:r>
            <a:endParaRPr b="0" lang="en-US" sz="4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   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Изменение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 глагола </a:t>
            </a:r>
            <a:r>
              <a:rPr b="1" lang="ru-RU" sz="3600" spc="-1" strike="noStrike">
                <a:solidFill>
                  <a:srgbClr val="00b050"/>
                </a:solidFill>
                <a:latin typeface="Century Gothic"/>
              </a:rPr>
              <a:t>по временам свойственно изъявительному </a:t>
            </a:r>
            <a:r>
              <a:rPr b="1" lang="ru-RU" sz="3600" spc="-1" strike="noStrike">
                <a:solidFill>
                  <a:srgbClr val="000000"/>
                </a:solidFill>
                <a:latin typeface="Century Gothic"/>
              </a:rPr>
              <a:t>наклонению: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настоящ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прошедшее время;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  <a:p>
            <a:pPr marL="173160" indent="-1731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Century Gothic"/>
              </a:rPr>
              <a:t>будущее время.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Содержимое 3" descr=""/>
          <p:cNvPicPr/>
          <p:nvPr/>
        </p:nvPicPr>
        <p:blipFill>
          <a:blip r:embed="rId1"/>
          <a:stretch/>
        </p:blipFill>
        <p:spPr>
          <a:xfrm>
            <a:off x="384120" y="609480"/>
            <a:ext cx="83026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9T15:31:51Z</dcterms:created>
  <dc:creator>Людмила</dc:creator>
  <dc:description/>
  <dc:language>en-US</dc:language>
  <cp:lastModifiedBy>Людмила</cp:lastModifiedBy>
  <dcterms:modified xsi:type="dcterms:W3CDTF">2018-03-11T22:16:55Z</dcterms:modified>
  <cp:revision>23</cp:revision>
  <dc:subject/>
  <dc:title>Глагол как часть речи</dc:title>
</cp:coreProperties>
</file>